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2282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 loose collection of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deo going on youtub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interested in having nerd rage arguments about what I say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2DFE-EB7C-4310-9ABF-4A22F5C55D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have gotten better at this over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have developed an aesthetic of what’s “good code” and what is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’s very different from my ideas when I was in schoo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5E65-6EAF-4AFD-871B-9A7EF473CA5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am not the Grumpy Old Fortran Programm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mized code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er to wr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er to underst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gg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shorter life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ses undesirable constraints on the rest of the code (oh, your input has to be formed THIS WA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 all that code we had to write!  Very little of that is the inner lo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if you even think about performance of most of that code, even for a minute, you are wasting time and clouding your mental spac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nsequence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are working on code, and you have the impulse to optimize, it is probably wro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’s talk about data structures for a seco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about answering a query that your program ha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n accelerated w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think about it as enabling operations… why do you want to do those oper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om asset loading anecd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y approach would ha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n more time to impl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more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gmented the heap m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d less-predictable performance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the executable big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en harder to underst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en more bug-pr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the source code l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the source code more complic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for no perceivable benefit.  Unequivocally wor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w, multiply this problem not just by this one asset loading bit, but by everything in a gam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ere simply better programmers than I was.  But I thought I was sma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’s an issue of wisdom here: wisdom to give them the benefit of the doub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rray of str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loop that does a compare to find the one I w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type this without thinking.  I know it will work.  The performance almost never mat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if I know I may need to change it l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on’t change it until the need actually ari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mization is not ALWAYS ba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good when you are optimizing things that actually mat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only bad when you are optimizing for the wrong th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mization is not ALWAYS bad.  It is only bad when you are optimizing for the wrong th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same way as code has speed / space-consuming behavior, it has life-consuming behav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if you are using data structures often to optimize for speed or memory, YOU ARE PROBABLY DOING THE WRONG OPTIM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us DATA STRUCTURES SHOULD BE USED SPARING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ing furth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see a complicated algorithm somewhere, it is probably a bad idea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use complicated data stru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make the speed/space/life tradeoff ignoring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they require a large life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 marginal benef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short lifespan!  (More complication == more assump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propose a complicated algorithm, the payoff had better be fricking giganti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think the applied CS community has a crisis of identity on their hand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would, if they were paying attention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r the 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 on to smaller top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didn't need functionality y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More code!  (Compile, link time; harder to 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general = more vague = less self-docume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ed systems are harder to delete late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er on, how do you know if you can delete this generalized system or no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des connected to other n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xity grows superlinearly with number of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t all possible, do something sm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s: fancy collision stuff, terrain LOD system,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’t know where recompute() is called fro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the global state like?  Etc, etc.  Taken explicit knowledge and made it implicit – harder to see/underst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all graph of the program gets more complicated every time you do th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head of changing both function and the caller...  (Worse in C++ if it is a method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 Program complexity is super-linear with number of pie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t things done quickly, robus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s things that aren’t bug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s things that are si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omething like Call of Duty, this is kind of small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as a job for one person to do, it is quite larg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nd-wr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as of final product (lots of code was written and then deleted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ggest things I remember doing in college were maybe 12k-16k li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4EC6-2995-471C-B069-CDBA6198D7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most of these things are the ostensible goal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the stuff I was mentioning earlie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ool stuff: usefu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go beyond knowing the techniques to an operational wisd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ming methodologies: are supposed to do 1-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engineering paradig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e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would have said “yeah, I know deleting code is more important than addin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then I go behave as though I didn’t*really* know th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takes a lot of practice to internalize these th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if you think you already know what I am talking about, consider that maybe you don’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gger.  Fortunately I don’t have to do the programming myself this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F9AC-5385-4169-8722-54E350E844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really have to be produc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nd you can't skimp out on quality to get that productivity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ADD8-B6AB-4F6D-A2B6-929B839E0E3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it can’t be lousy code either.  Here’s the machine you have to deal with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E6FC-46BF-46C8-B30C-72D9E5816C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it can’t be lousy code either.  Here’s the machine you have to deal with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146A-AB50-46D0-AFDD-593950B1613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 we are talking about quality code 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65D9-FDA1-4208-9C87-7B77F74745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2286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304920" y="3886200"/>
            <a:ext cx="624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 enough if you are just the programm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you probably have to do a lot of these jobs to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A3E8-E64A-4FAB-8A3E-8079571D44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3F5-8747-46E1-ABB0-CB7FB9C2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23C7-132D-4B28-AF5A-A211B596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F69-DD64-4C88-B8A8-D3C01380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226-7FFB-459F-B5FE-C15AFCC5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9730-6E91-49C2-8C50-9D5B8DED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603-22C1-4D73-914D-F8EA587A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FC19-B467-4859-A9A9-4FF540C9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32DB-1EDF-4179-8451-BD8D2A92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FCE-D8F8-434C-BAEE-B449470E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7AD-6DC7-4C9A-A248-817CF8EB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2C0-5014-41DE-B3AE-C676578A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8BA-4A17-4899-A93F-2A6A685E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8AB0-6DB1-4179-BA33-4BA305CEDDC1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Programming Aesthetic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learned fro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making independent games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pril 1, 2011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le 1"/>
          <p:cNvSpPr/>
          <p:nvPr/>
        </p:nvSpPr>
        <p:spPr>
          <a:xfrm>
            <a:off x="533520" y="533520"/>
            <a:ext cx="82296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b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extremely effectiv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getting things d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by the way …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Impulses to optimize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re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usually premature</a:t>
            </a: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Most code is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Constantia"/>
              </a:rPr>
              <a:t>no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performance-sensitive</a:t>
            </a: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Optimization is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Constantia"/>
              </a:rPr>
              <a:t>usually bad</a:t>
            </a: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!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(Unless practiced very carefully!)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Data Structur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Data structures are about 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optimization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using the right data structure”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Constantia"/>
              </a:rPr>
              <a:t>is usually bad!</a:t>
            </a:r>
            <a:br>
              <a:rPr sz="4400"/>
            </a:br>
            <a:br>
              <a:rPr sz="4400"/>
            </a:br>
            <a:r>
              <a:rPr b="0" i="1" lang="en-US" sz="3600" spc="-1" strike="noStrike">
                <a:solidFill>
                  <a:srgbClr val="ffffff"/>
                </a:solidFill>
                <a:latin typeface="Constantia"/>
              </a:rPr>
              <a:t>(Because it is premature optimization!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thegamereviews.com/userfiles/image/Bargain%20Bin/01-21-09/Doom.jpg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Now I use arrays of record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for almost everything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braid\source_art\David stuff\Digital Assets I\Braid_screenshot01.jp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Things you might optimize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Constantia"/>
              </a:rPr>
              <a:t>seconds per program execution (speed)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nstantia"/>
              </a:rPr>
              <a:t>bytes per program execution (space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Instead, optimizing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Constantia"/>
              </a:rPr>
              <a:t>years of my life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nstantia"/>
              </a:rPr>
              <a:t>per program implementation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nstantia"/>
              </a:rPr>
              <a:t>(life)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Constantia"/>
              </a:rPr>
              <a:t>This is a valid optimization parameter you can consider just like those others!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Data structures are about 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memory 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or</a:t>
            </a: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 speed 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optimization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They are not abou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life 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optimization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(unless you absolutely need that speed or memory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Complicated Algorithm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are not good!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lmost all applied CS research papers are bad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457200" y="16765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propose  adding a lot of complexit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for a very marginal bene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doesn’t work in all cases </a:t>
            </a:r>
            <a:r>
              <a:rPr b="0" lang="en-US" sz="2000" spc="-1" strike="noStrike">
                <a:solidFill>
                  <a:srgbClr val="ffff00"/>
                </a:solidFill>
                <a:latin typeface="Constantia"/>
              </a:rPr>
              <a:t>(limited inputs, robustness)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“supported” by bogus numbers, unfair comparisons</a:t>
            </a:r>
            <a:br>
              <a:rPr sz="4400"/>
            </a:br>
            <a:br>
              <a:rPr sz="4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228600" y="502920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This isn’t fooling anyone any more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 generalized system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is usually </a:t>
            </a: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worse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than a specific / hardcoded one!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dding new system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is bad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This should only ever b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 last resort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nstantia"/>
              </a:rPr>
              <a:t>deleting code &gt;&gt;&gt; adding code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Straight-line cod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preferred over function calls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2285640"/>
            <a:ext cx="2362320" cy="38862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a = b + c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a *= f(k)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a /= g(a)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rint(a);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Content Placeholder 2"/>
          <p:cNvSpPr/>
          <p:nvPr/>
        </p:nvSpPr>
        <p:spPr>
          <a:xfrm>
            <a:off x="3352680" y="2286000"/>
            <a:ext cx="2362320" cy="38862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floa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recompute 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float a = b + c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a *= f(k);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a /= g(a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a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recompute(a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print(a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6400800" y="2286000"/>
            <a:ext cx="2362320" cy="38862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{  </a:t>
            </a:r>
            <a:r>
              <a:rPr b="1" lang="en-US" sz="1500" spc="-1" strike="noStrike">
                <a:solidFill>
                  <a:srgbClr val="ffff00"/>
                </a:solidFill>
                <a:latin typeface="Courier New"/>
                <a:ea typeface="Courier New"/>
              </a:rPr>
              <a:t>// Update 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a = b +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a *= f(k);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a /= g(a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rint(a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What is a good programmer, then?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(in this context)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cloc.sourceforge.net v 1.53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Language          files          blank        comment           code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++                 221          25736           8312          73223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/C++ Header        239           3655           2029           9467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                     3           1046           2249           5986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HLSL                 20            354            143           1287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SUM:                488          30907          12746          90347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685800" y="533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nstantia"/>
              </a:rPr>
              <a:t>Braid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sourc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gets things done quickl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gets things done robustly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makes things simple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finishes what he writes (for real)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broad knowledge of advance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deas and technique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nstantia"/>
              </a:rPr>
              <a:t>(but only uses them when genuinely helpful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it’s easy to see benefits of an idea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developed for benefit’s sake!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very hard to measure subtle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negatives chained to this idea </a:t>
            </a:r>
            <a:br>
              <a:rPr sz="4400"/>
            </a:br>
            <a:br>
              <a:rPr sz="3200"/>
            </a:b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(which often outweigh the benefits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knowing”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vs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deeply, intuitively understanding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cloc.sourceforge.net v 1.53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Language          files          blank        comment           code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++                 329          37708          14900          96822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/C++ Header        331           5303           2221          12889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                     2            583            647           3883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HLSL                 51            986            311           2458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SUM:                720          44659          18095         116204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--------------------------------------------------------------------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685800" y="533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nstantia"/>
              </a:rPr>
              <a:t>The Witness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ourc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Industry Average”: 3250 lines/year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53352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(90000 lines) / (3250 lines/year) ≈ </a:t>
            </a:r>
            <a:r>
              <a:rPr b="0" lang="en-US" sz="4000" spc="-1" strike="noStrike">
                <a:solidFill>
                  <a:srgbClr val="ffff00"/>
                </a:solidFill>
                <a:latin typeface="Constantia"/>
              </a:rPr>
              <a:t>28 ye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www.gamesbasement.co.uk/userfiles/image/Xbox%20360.jpg"/>
          <p:cNvPicPr/>
          <p:nvPr/>
        </p:nvPicPr>
        <p:blipFill>
          <a:blip r:embed="rId1"/>
          <a:stretch/>
        </p:blipFill>
        <p:spPr>
          <a:xfrm>
            <a:off x="2286000" y="45720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dobe Caslon Pro"/>
              </a:rPr>
              <a:t>512 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MB RAM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(you can’t use it all), no VM</a:t>
            </a:r>
            <a:br>
              <a:rPr sz="2800"/>
            </a:br>
            <a:r>
              <a:rPr b="0" lang="en-US" sz="4400" spc="-1" strike="noStrike">
                <a:solidFill>
                  <a:srgbClr val="ffffff"/>
                </a:solidFill>
                <a:latin typeface="Adobe Caslon Pro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Constantia"/>
              </a:rPr>
              <a:t>slow 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in-order cor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Slow file access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://www.gamesbasement.co.uk/userfiles/image/Xbox%20360.jpg"/>
          <p:cNvPicPr/>
          <p:nvPr/>
        </p:nvPicPr>
        <p:blipFill>
          <a:blip r:embed="rId1"/>
          <a:stretch/>
        </p:blipFill>
        <p:spPr>
          <a:xfrm>
            <a:off x="304920" y="228600"/>
            <a:ext cx="3247920" cy="2057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670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dobe Caslon Pro"/>
              </a:rPr>
              <a:t>Certification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533520" y="3276720"/>
            <a:ext cx="8229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Program can’t crash, even with antagonistic us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Loading time is capp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www.gamesbasement.co.uk/userfiles/image/Xbox%20360.jpg"/>
          <p:cNvPicPr/>
          <p:nvPr/>
        </p:nvPicPr>
        <p:blipFill>
          <a:blip r:embed="rId1"/>
          <a:stretch/>
        </p:blipFill>
        <p:spPr>
          <a:xfrm>
            <a:off x="304920" y="228600"/>
            <a:ext cx="3247920" cy="2057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670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dobe Caslon Pro"/>
              </a:rPr>
              <a:t>Certification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304920" y="274320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Soak Test”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3 days * 86400 sec/day * 60 frames/sec =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nstantia"/>
              </a:rPr>
              <a:t>15,552,000 fra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If you leak 4 bytes per frame, you’ll fai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le 1"/>
          <p:cNvSpPr/>
          <p:nvPr/>
        </p:nvSpPr>
        <p:spPr>
          <a:xfrm>
            <a:off x="533520" y="533520"/>
            <a:ext cx="82296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game desig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level desig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rt direc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audio directio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business develo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marketing / P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financial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09:32:10Z</dcterms:created>
  <dc:creator>Valued Customer</dc:creator>
  <dc:description/>
  <dc:language>en-US</dc:language>
  <cp:lastModifiedBy>Valued Customer</cp:lastModifiedBy>
  <dcterms:modified xsi:type="dcterms:W3CDTF">2011-06-23T04:09:49Z</dcterms:modified>
  <cp:revision>151</cp:revision>
  <dc:subject/>
  <dc:title>Games as Instruments for Observing Our Universe</dc:title>
</cp:coreProperties>
</file>