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2282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loose collection of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deo going on youtu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interested in having nerd rage arguments about what I say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2B8B-702F-41F1-8512-C9569AACEA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ve gotten better at this ove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ve developed an aesthetic of what’s “good code” and what is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’s very different from my ideas when I was in schoo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10DB-1719-446F-B2F9-A198CA72ED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am not the Grumpy Old Fortran Progra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zed cod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er to wr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er to underst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gg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shorter life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undesirable constraints on the rest of the code (oh, your input has to be formed THIS W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 all that code we had to write!  Very little of that is the inner lo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if you even think about performance of most of that code, even for a minute, you are wasting time and clouding your mental spa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sequenc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working on code, and you have the impulse to optimize, it is probably wr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’s talk about data structures for a seco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about answering a query that your program h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n accelerated 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think about it as enabling operations… why do you want to do those oper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om asset loading anecd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approach would ha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more time to impl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more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gmented the heap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d less-predictable performanc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the executable big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en harder to underst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en more bug-p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the source code l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the source code more complic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for no perceivable benefit.  Unequivocally wor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, multiply this problem not just by this one asset loading bit, but by everything in a ga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ere simply better programmers than I was.  But I thought I was sma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’s an issue of wisdom here: wisdom to give them the benefit of the doub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rray of str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loop that does a compare to find the one I w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type this without thinking.  I know it will work.  The performance almost never ma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if I know I may need to change it l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on’t change it until the need actually ari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zation is not ALWAYS b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good when you are optimizing things that actually ma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nly bad when you are optimizing for the wrong 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zation is not ALWAYS bad.  It is only bad when you are optimizing for the wrong 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same way as code has speed / space-consuming behavior, it has life-consuming behav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if you are using data structures often to optimize for speed or memory, YOU ARE PROBABLY DOING THE WRONG OPTIM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s DATA STRUCTURES SHOULD BE USED SPARING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ing furth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see a complicated algorithm somewhere, it is probably a bad idea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use complicated data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make the speed/space/life tradeoff ignoring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they require a large life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 marginal bene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short lifespan!  (More complication == more assump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propose a complicated algorithm, the payoff had better be fricking gigan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think the applied CS community has a crisis of identity on their hand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would, if they were paying attentio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 the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on to smaller top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didn't need functionality y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More code!  (Compile, link time; harder to 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general = more vague = less self-docum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 systems are harder to delete late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r on, how do you know if you can delete this generalized system or no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des connected to other n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ity grows superlinearly with number of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t all possible, do something sm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fancy collision stuff, terrain LOD system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know where recompute() is called fro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global state like?  Etc, etc.  Taken explicit knowledge and made it implicit – harder to see/underst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ll graph of the program gets more complicated every time you do th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head of changing both function and the caller...  (Worse in C++ if it is a method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 Program complexity is super-linear with number of pie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t things done quickly, robus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things that aren’t bug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things that are si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omething like Call of Duty, this is kind of small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s a job for one person to do, it is quite larg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-wr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as of final product (lots of code was written and then deleted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ggest things I remember doing in college were maybe 12k-16k li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6BBB-631C-4FF6-8D44-7D71146473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most of these things are the ostensible goal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he stuff I was mentioning earlie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 stuff: usefu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go beyond knowing the techniques to an operational wis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ming methodologies: are supposed to do 1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engineering paradig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ould have said “yeah, I know deleting code is more important than add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then I go behave as though I didn’t*really* know th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takes a lot of practice to internalize these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if you think you already know what I am talking about, consider that maybe you don’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gger.  Fortunately I don’t have to do the programming myself this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57D1-E4FF-451D-BA0B-CFA080C357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really have to be produc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d you can't skimp out on quality to get that productivity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DAD5-F609-4426-9F8A-7F3DBAFFD7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t can’t be lousy code either.  Here’s the machine you have to deal with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F6D6-68AF-4CC5-BDB2-D07CF5EB93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t can’t be lousy code either.  Here’s the machine you have to deal with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F222-6CA4-45E3-97DE-16C8984E26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we are talking about quality code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32EC-D537-41D6-A5E6-9BFFBB9CFC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enough if you are just the programm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you probably have to do a lot of these jobs to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71BA-344E-4B7D-9BBD-EDB14B4917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CB7-CDEA-44B3-B503-290FC346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C3D-EE6D-4A0E-941A-AAB166E2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7DF-EBB0-4E51-98C8-8C80E2FF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D67-93BD-4709-9DB4-0C0C9EFE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F34-A49B-4FED-AD9D-A45B5A3B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3B0-62B8-4CAE-B485-2B8F4E9F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835-944C-476F-82BC-4F84F40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632-6D8E-4654-B8B3-F6D437AC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8FB-F622-4DF0-A3B7-E7F9962E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E10-4479-4686-849F-3BFC935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5E6-F769-478E-AABD-82081FFB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3A6-8F2D-4329-92E6-588DC4A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08A2-4550-475D-B520-EA3970C657B9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Programming Aesthetic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learned fro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aking independent game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pril 1, 2011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533520" y="5335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b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extremely effectiv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getting things d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by the way 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Impulses to optimiz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re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usually premature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ost code is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Constantia"/>
              </a:rPr>
              <a:t>no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performance-sensitive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Optimization is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Constantia"/>
              </a:rPr>
              <a:t>usually bad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!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(Unless practiced very carefully!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ata Structur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ata structures are about 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optimization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using the right data structure”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Constantia"/>
              </a:rPr>
              <a:t>is usually bad!</a:t>
            </a:r>
            <a:br>
              <a:rPr sz="4400"/>
            </a:b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Constantia"/>
              </a:rPr>
              <a:t>(Because it is premature optimization!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thegamereviews.com/userfiles/image/Bargain%20Bin/01-21-09/Doom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Now I use arrays of record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for almost everything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braid\source_art\David stuff\Digital Assets I\Braid_screenshot01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ings you might optimize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seconds per program execution (speed)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bytes per program execution (space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Instead, optimizing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years of my life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per program implementation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(life)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Constantia"/>
              </a:rPr>
              <a:t>This is a valid optimization parameter you can consider just like those others!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ata structures are about 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memory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or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 speed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optimization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ey are not abou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life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optimization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(unless you absolutely need that speed or memory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omplicated Algorithm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are not good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lmost all applied CS research papers are bad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457200" y="16765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propose  adding a lot of complexit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for a very marginal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doesn’t work in all cases </a:t>
            </a:r>
            <a:r>
              <a:rPr b="0" lang="en-US" sz="2000" spc="-1" strike="noStrike">
                <a:solidFill>
                  <a:srgbClr val="ffff00"/>
                </a:solidFill>
                <a:latin typeface="Constantia"/>
              </a:rPr>
              <a:t>(limited inputs, robustness)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“supported” by bogus numbers, unfair comparisons</a:t>
            </a: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228600" y="50292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his isn’t fooling anyone any more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 generalized system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is usually 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worse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an a specific / hardcoded one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dding new system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is bad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is should only ever b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 last resor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deleting code &gt;&gt;&gt; adding co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Straight-line co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preferred over function call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2285640"/>
            <a:ext cx="2362320" cy="38862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= b + c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*= f(k)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/= g(a)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(a)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3352680" y="2286000"/>
            <a:ext cx="2362320" cy="38862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compute 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a = b +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a *= f(k)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a /= g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compute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6400800" y="2286000"/>
            <a:ext cx="2362320" cy="38862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{  </a:t>
            </a:r>
            <a:r>
              <a:rPr b="1" lang="en-US" sz="1500" spc="-1" strike="noStrike">
                <a:solidFill>
                  <a:srgbClr val="ffff00"/>
                </a:solidFill>
                <a:latin typeface="Courier New"/>
                <a:ea typeface="Courier New"/>
              </a:rPr>
              <a:t>// Update 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= b +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*= f(k);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a /= g(a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(a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What is a good programmer, then?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(in this context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cloc.sourceforge.net v 1.53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Language          files          blank        comment           code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++                 221          25736           8312          73223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/C++ Header        239           3655           2029           9467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                     3           1046           2249           5986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HLSL                 20            354            143           1287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UM:                488          30907          12746          90347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68580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Braid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sourc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gets things done quickl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gets things done robustl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makes things simpl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finishes what he writes (for real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broad knowledge of advance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deas and techniqu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(but only uses them when genuinely helpful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it’s easy to see benefits of an ide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developed for benefit’s sake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very hard to measure subtle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negatives chained to this idea </a:t>
            </a:r>
            <a:br>
              <a:rPr sz="4400"/>
            </a:br>
            <a:br>
              <a:rPr sz="3200"/>
            </a:b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(which often outweigh the benefit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knowing”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vs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eeply, intuitively understand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cloc.sourceforge.net v 1.53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Language          files          blank        comment           code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++                 329          37708          14900          96822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/C++ Header        331           5303           2221          12889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                     2            583            647           3883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HLSL                 51            986            311           2458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UM:                720          44659          18095         116204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68580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The Witness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ourc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Industry Average”: 3250 lines/year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5335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(90000 lines) / (3250 lines/year) ≈ </a:t>
            </a: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28 ye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www.gamesbasement.co.uk/userfiles/image/Xbox%20360.jpg"/>
          <p:cNvPicPr/>
          <p:nvPr/>
        </p:nvPicPr>
        <p:blipFill>
          <a:blip r:embed="rId1"/>
          <a:stretch/>
        </p:blipFill>
        <p:spPr>
          <a:xfrm>
            <a:off x="2286000" y="45720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dobe Caslon Pro"/>
              </a:rPr>
              <a:t>512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MB RAM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you can’t use it all), no VM</a:t>
            </a:r>
            <a:br>
              <a:rPr sz="2800"/>
            </a:br>
            <a:r>
              <a:rPr b="0" lang="en-US" sz="4400" spc="-1" strike="noStrike">
                <a:solidFill>
                  <a:srgbClr val="ffffff"/>
                </a:solidFill>
                <a:latin typeface="Adobe Caslon Pro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slow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in-order co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Slow file acces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gamesbasement.co.uk/userfiles/image/Xbox%20360.jpg"/>
          <p:cNvPicPr/>
          <p:nvPr/>
        </p:nvPicPr>
        <p:blipFill>
          <a:blip r:embed="rId1"/>
          <a:stretch/>
        </p:blipFill>
        <p:spPr>
          <a:xfrm>
            <a:off x="304920" y="228600"/>
            <a:ext cx="324792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70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dobe Caslon Pro"/>
              </a:rPr>
              <a:t>Certifica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520" y="32767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Program can’t crash, even with antagonistic us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Loading time is capp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www.gamesbasement.co.uk/userfiles/image/Xbox%20360.jpg"/>
          <p:cNvPicPr/>
          <p:nvPr/>
        </p:nvPicPr>
        <p:blipFill>
          <a:blip r:embed="rId1"/>
          <a:stretch/>
        </p:blipFill>
        <p:spPr>
          <a:xfrm>
            <a:off x="304920" y="228600"/>
            <a:ext cx="3247920" cy="2057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70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dobe Caslon Pro"/>
              </a:rPr>
              <a:t>Certifica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04920" y="274320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Soak Test”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3 days * 86400 sec/day * 60 frames/sec =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15,552,000 fr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f you leak 4 bytes per frame, you’ll fai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533520" y="5335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game desig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level desig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rt dire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udio dire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business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arketing / P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financial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9:32:10Z</dcterms:created>
  <dc:creator>Valued Customer</dc:creator>
  <dc:description/>
  <dc:language>en-US</dc:language>
  <cp:lastModifiedBy>Valued Customer</cp:lastModifiedBy>
  <dcterms:modified xsi:type="dcterms:W3CDTF">2011-06-23T04:09:49Z</dcterms:modified>
  <cp:revision>151</cp:revision>
  <dc:subject/>
  <dc:title>Games as Instruments for Observing Our Universe</dc:title>
</cp:coreProperties>
</file>